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AFA-6206-4EBB-B4CA-DC894177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8CD5-EB1F-4C44-A2D6-A7D58C7B4C4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1A1D-350F-4967-8ABE-A08915FC0994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A64D-3EA1-4074-A73F-AD970388C2F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3BC-3FBB-49B7-8519-5681F948819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7C08-B03C-4D1B-A78B-40D4BA1E27C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7C52-6CCF-4BCA-870A-6FB95A81657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C39-5BBC-45EB-96BD-98DA9BF3DAB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108E-43CE-46BD-9D81-38C4E0390AC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DB2-E6DD-402A-88CF-AF86A7B0FE9C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A51A-93DF-4E96-B069-B9327770F91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DB0-FF41-4BE9-8FA3-22DFB14F82B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236D-6DE5-4ED9-A1AD-D4318D6C75DB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A1B1-103C-4BE5-87A3-BEB7004DEFE4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488-04E2-4275-9E07-7E5DA122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016-347C-4686-AF3D-4CA4735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2C1-BDC2-44D1-A0D7-9B16036B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298-AD8F-42E4-9CD3-2C181E43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CF4A-006A-40EE-AA3F-A2A247E9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0FD-4ED0-4329-87C8-F2FB9983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6F2-3014-4372-A32F-D7DA9F74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A583-B269-4967-B898-A551F00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040-B227-4F5A-881C-28CBC4B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13B-D836-4B8C-B015-B722AFE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12E0-174C-4A82-A4F7-8580A5A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294-FBB5-4689-9C4F-0C82ADE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99F0-62BA-4953-A0F7-6634931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3704-A1D3-4E31-BCEB-E9EE230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D550-5EF8-488B-B876-2AE49BF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0946-E3B5-4766-82F5-8719D559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52D-5636-47F7-8B65-CBC810DC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3BF-1972-4B8C-900D-63944DDB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052-2DEB-44C7-B584-FF230E74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05C-2F36-4C11-A1BD-D0C5113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3CD-B8A2-4453-98C5-D1B282A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183-581D-4B2F-A7C0-BD8365D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619-252A-4421-B799-EEAF7B3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144-965C-4510-A939-12C0EB8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4F24-012E-4C2B-99E4-5796F5615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A5E-CC9C-4F1D-822C-2170C28C40D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Writing a Personal Narrative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. 88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e Write Sour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CH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Edg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nglish 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ather specific details about your chosen life experien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ctions – relate what you (and others) did in a sit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nsory details – show what you saw, smelled, heard, tasted, or touch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rsonal thoughts – reveal what you thought during your experien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entify the key sensory details related to this time (see the chart on p. 97 for a strategy for gathering these detail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ize your ideas chronologicall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emorable narratives are suspenseful; they make the reader want to know what happens nex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tart with a problem (conflict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some type of physical or mental obstacle in your wa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ork in actions that respond to the problem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each action should build suspense in the stor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Build toward the climax or high poin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this is the most exciting part in which the writer does or does not overcome the challenge.  This should happen at the end of the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see p. 98 for a diagram for plot development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dialogue to add personality to your writing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alogue should do three thing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ow a speaker’s persona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eep the action mov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inform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mpare the examples with and without dialogue on p. 99 to see how dialogue improves the personality and enjoyment of a narrativ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066680" y="1523880"/>
            <a:ext cx="69343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rit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ell the complete story – the beginning, middle, and en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rab the reader’s interest in the beginning, build suspense in the middle, and in the ending, tell how you were changed by the experi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details you gathered in prewrit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clude dialogue whenever it makes sense to do s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on every other line, leaving space for additions and changes later 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riting the Personal Narrative, p. 102-6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et the big pictur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ave in mind how the story will begin, end, and everything in betwee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art your personal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rab the reader’s atten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tart in the middle of the ac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troduce the main problem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clude important background informa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SE TRANSITIONS (see p. 103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 the middle par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clude the key action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dd sensory detail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ork in your personal thoughts and feeling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aintain suspens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nd your personal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d should reveal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ow you overcame your problem or accomplished something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what you have learned from the experience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990720" y="1447920"/>
            <a:ext cx="6629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vis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the Personal Narrative, p. 107-11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our first draft is your first look at a developing narrative. During the revising step, you improve your first draft by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dding to, rewriting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r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reorganizing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fferent par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cus on these traits when you revis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iz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oi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ord Choi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ntence Fluenc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Revis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et aside your first draft for a day or two, 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if possible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, before you review your writing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Be sure each main part—the beginning, the middle, and the ending—works well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Revise any parts that seem confusing or incomplet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Pay special attention to your writing voice.  Do you sound truly interested in the experience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Use specific words that reflect your feelings about the experienc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Be sure your sentences read smoothly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Ideas,            p. 108-9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 sure your narrative “shows” your experience, not just “tells” i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ails make the narrative clea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Do I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show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rather than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in my narrative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Your narrativ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show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f sentences contain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ction, sensory details, dialogue,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d your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ersonal thoughts and feeling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ave I included enough detail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5 W’s and H —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ho? what? when? where? why?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how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4 Writing Purpos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xpository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provides information or an explanation about a t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arra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tells a sto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escrip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describes a subject using sensory detai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ersuas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attempts to change someone’s viewpoint about a subje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Organization,  p. 110-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 sure all parts of your narrative work smoothly toge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es my beginning grab the reader’s attention?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does if it does one of the following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arts in the middle of the 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s a clear image with sensory detail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s with a personal though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Organization,  p. 110-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es my ending work well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t does if you can answer “yes” to these 4 ques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es my essay build to my personal victory or accomplishment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es my personal narrative end soon after the most intense or most important moment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ill my reader know why this event is important to me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re all my reader’s questions answered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any answer is “no”, revise your ending to make it more solid and satisfy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Voice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12-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key is realism and consistenc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es my dialogue sound realistic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t is if it reveals the speaker’s personali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you know what your speaker’s personality is? (see the chart on p. 112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created a consistent narrative voic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es it sound like you throughout the entire work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Word Choice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14-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specific verbs and words with the right connotation, or feel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used specific verb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 have if your verbs show clear action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the chart on p. 114 to improve your pie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 my verbs have the right connotation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y do if they create the feeling you wa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tice the difference in meaning of the verbs in the chart on p. 115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Sentence Fluency, p. 116-7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eck for a variety of short and long sentenc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should I use long sentenc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xpress complex ide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should I use short sentenc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deliver especially important ide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eries of short sentences can quicken the pace like a heart beating fast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revising checklist on p. 118 to check your progress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295280" y="167652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d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diting your Personal Narrative, p. 119-2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eys to Effective Editin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a dictionary, a thesaurus, and the “Proofreader’s Guide” on p. 604-763 in th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rite Source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ook to guide your correction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heck for any words or phrases that may be confusing to the read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heck your narrative for correct use of punctuation, capitalization, spelling, and gramma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dit on a printed computer copy and then enter your changes on the comput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editing and proofreading marks on the inside back cover of th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rite Sourc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ook to note your chang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diting for Conventions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20-2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punctuated dialogue correctly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llow these rule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a comma set off a speaker’s exact words from the rest of the sent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ce periods and commas inside quotation mark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ce an exclamation point or a question mark outside quotation marks when it punctuates the main sentence, and inside when it punctuates the quot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used pronouns correctly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 have if the pronouns agree with their antecedents in all of the followin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mb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end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ers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editing checklist on p. 122 to check your progress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sonal Narrativ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personal narrative re-creates a specific experience or event in your lif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 write an effective narrative, select an experience that you feel strongly abou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457200" y="152388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blishing your Personal Narrative, p. 12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ke a neat final copy to sha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Other ide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cording your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esenting it in a class blo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ading it to a group of your peer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ocus on presentatio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blue or black ink and write neatly; or type your essa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your name in the upper left-hand corner of page 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uble-space your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dent every paragraph and leave a one-inch margin on all four sid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your last name and the page number in the upper right-hand corner of every page after the first on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Rubric for Narrative Writing on p. 124-5 to assess your writing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flecting on Your Writing, p. 12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’ve worked hard on your personal narrativ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W – think about your writin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mplete each of the following statements about your narrativ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strongest part of my personal narrative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part that still needs work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main thing I learned about writing a personal narrative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 my next personal narrative, I would like to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ne question I still have about writing personal narratives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 Selective with Detai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lthough you are telling a story, you will still be using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nsory detail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o paint a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mental pictur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for your read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important to includ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pecific detail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owever, a reader doesn’t need to know every little th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lect details that are important to retelling the stor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riting a Narrative Paragrap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narrative paragraph has 3 par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pic senten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introduces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body sentenc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share details that re-create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closing senten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reflects on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Understanding Your Goals for Writing a Personal Narrativ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dea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lear ideas that re-create life experi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Organizatio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retell the story in chronological order with a strong beginning, middle, and e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Voi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you want to sound natural, believable, and interested in your own topic (try to use dialogue when possibl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Understanding Your Goals for Writing a Personal Narrativ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ord Choi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hoose appropriate words based on their connot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ntence Fluen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make each sentence move smoothly into the nex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onven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orrect any spelling, punctuation, capitalization, and grammar errors before turning in your final draft (use a dictionary, spell check, and grammar handbook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Verdana"/>
              </a:rPr>
              <a:t>This is where it all begins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990720" y="1523880"/>
            <a:ext cx="716256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ewr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ok for writing idea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ecall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reewrit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moir, etc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lect a writing idea for public writ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ot every life experience is appropriate for sharing publicly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ake good choices at the beginning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ist your goals for the assignmen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at do you want to accomplish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ow will you know if you are successful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dentify your audi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o will be reading this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o you need to adjust your way of writing to fit this audience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31:14Z</dcterms:created>
  <dc:creator>cedge</dc:creator>
  <dc:description/>
  <dc:language>en-US</dc:language>
  <cp:lastModifiedBy>Nadia Williams</cp:lastModifiedBy>
  <dcterms:modified xsi:type="dcterms:W3CDTF">2014-08-12T14:07:42Z</dcterms:modified>
  <cp:revision>26</cp:revision>
  <dc:subject/>
  <dc:title>Writing a Personal Nar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